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7A1-C0EE-4C0B-AABD-E055F8E3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AFA-DCD1-4828-96FA-24C81805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D3B-041E-4D37-8A4D-1AF05075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E1F-1A42-4E8E-8C08-7DCCC5A8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523-49E3-4B32-870F-1C2E61CB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C36B-1970-4AA2-B365-E344B3B0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D828-C6DF-42CE-97AA-9984631B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148D-B715-4F44-95EF-D98684EC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2472-0539-4885-8AA5-EEEF72C7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1CF3-9019-47AB-9244-77A9D8F6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BFB6-B0F7-4594-B8E0-DAE5DD01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8B9-EE2D-428F-9A31-97622BF9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641-7F8E-4F43-91CE-C53093B5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8FDC-B753-4DD0-A139-9FCDD57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B75F-0FDE-4790-AFC5-86CB615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F15A-2649-434B-9A61-F2301437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7EB-D018-4CBE-9D5A-C34A3DFC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170-2722-49F6-94EE-5B1722A5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610-2748-45C4-BA8D-86F241DA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233-EFF0-4BBC-B42F-49A25AF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6B8-DBC2-4DA1-A8BD-739AB446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7B2-DB35-4E9C-811E-BC5864FF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5E5-F506-49BD-B975-432FC60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399-8327-4670-AF92-05D0684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38FF-5561-4006-B635-E4D2B19DE1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8593-A071-4B11-8D0B-3915A2BA25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otepage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Blogging in the 21</a:t>
            </a:r>
            <a:r>
              <a:rPr b="0" lang="en-US" sz="4400" spc="-1" strike="noStrike" baseline="30000">
                <a:solidFill>
                  <a:srgbClr val="703dff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Centur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ina Ruggi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Blogs for K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Blogs help kids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ng out the writer in th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ds love having an audience. They will have instant recognition and approva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good spelling habits, grammar skills, and develop a love for writing at a young 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nnovative concept that has potential benef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00240" y="1828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g Connection. Retrieved July 24, 2009, Web site: http://www.blog-connection.c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on Housley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notepage.n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a b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g is short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eblo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a personal and public journal or diary on the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way for kids to connect to their global pe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the wave of the future and a new way to communic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289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Where Did Blogs Come Fro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gging began in the mid 1990’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ot clear who the very first blogger w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rt of blogging took hold of the technological world in 1999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very first blogs were Internet web tou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ly thought of as diaries or online journals, blogs have evolved into the latest web conten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716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df00"/>
                </a:solidFill>
                <a:latin typeface="Comic Sans MS"/>
              </a:rPr>
              <a:t>Blogs are the Latest Craze in Commun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Blogging is a connection to the world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all types of blog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sonal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shares your thoughts and ideas with the worl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siness Blog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 way to keep in touch with customers, suppliers, or prospective custom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hoto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online photo album to share photos with family and friend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mily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helps family stay in touch by posting family new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unity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team schedules, meeting updates, and information for community memb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What Does Blogging Cre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mmunity buil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etacogn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lobal awar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isual litera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Information litera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ersonal learning enviro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earning moment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ntinual and personal professional develo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84680" y="4724280"/>
            <a:ext cx="1498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Benefits of Blogging for K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ponsibility and Commit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daily post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 updates require children to be disciplined and responsib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increased communication with friends and relativ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exposure to innovative  Internet technologies that help them with communication ski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90720" y="2335320"/>
            <a:ext cx="2771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ontinued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oved Writing Skil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- when presented with an audience, children will want to present their best wor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oved Editing Skills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iting daily entries will help children learn how to present their ideas clearly and professionally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oved Spelling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utomated spell-checking helps children be aware of spelling errors when they occu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yping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 children familiar with keyboards at a young age quickly making them proficient typist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A New Era of Journa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Comic Sans MS"/>
              </a:rPr>
              <a:t>From pen &amp; paper journaling to online journaling…a leap into the 21</a:t>
            </a:r>
            <a:r>
              <a:rPr b="0" i="1" lang="en-US" sz="2800" spc="-1" strike="noStrike" baseline="30000">
                <a:solidFill>
                  <a:srgbClr val="ff0066"/>
                </a:solidFill>
                <a:latin typeface="Comic Sans MS"/>
              </a:rPr>
              <a:t>st</a:t>
            </a:r>
            <a:r>
              <a:rPr b="0" i="1" lang="en-US" sz="2800" spc="-1" strike="noStrike">
                <a:solidFill>
                  <a:srgbClr val="ff0066"/>
                </a:solidFill>
                <a:latin typeface="Comic Sans MS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spaces of writing though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ates knowledge as a personal refl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riches experi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24600" y="1828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New Era Continued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1200" y="1862280"/>
            <a:ext cx="3581280" cy="3590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emotional attachment knowing others will read pos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a wider audience for ide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s learners and makes learning collaborative and powerfu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ntury learning will connect students and adults with their global pe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4:26:43Z</dcterms:created>
  <dc:creator>Serina Ruggiero</dc:creator>
  <dc:description/>
  <dc:language>en-US</dc:language>
  <cp:lastModifiedBy>Serina Ruggiero</cp:lastModifiedBy>
  <dcterms:modified xsi:type="dcterms:W3CDTF">2009-07-28T21:20:03Z</dcterms:modified>
  <cp:revision>6</cp:revision>
  <dc:subject/>
  <dc:title>Blogging in 2009</dc:title>
</cp:coreProperties>
</file>